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56A-6B01-447E-BDAE-32FAD789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F01-C41A-4AAE-AB16-41F26DC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7B728-5AE0-4055-92F5-7ACFC779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B795E-4615-47A5-BBE1-52FA2ADE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BDFBE-307D-48E2-A3CB-D57E2069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FE306-8AAE-45E8-973C-2FD14C5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40CC0-70A6-4565-9BED-BE37A17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EEA71-531F-47F2-AAF5-4207F74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850D2-D576-46A3-897E-942B0C6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8130E-FBF3-4FF8-A34A-429EC7A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B280-D8D0-4E97-A7DA-84141C6B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99203-4FC6-4E7F-86E2-AF26298A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DF5-9E02-4431-8CFE-38BE2B83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C2AE2-29B7-4F98-A04B-ADC6FFAE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09829-117A-41E8-B90E-6961B272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41C1C-757C-4AFA-A01B-A685D01E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34402-37CF-4132-A9C4-D3F9F7F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DD3C3-EFB3-498F-A395-7B635E3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AE51D-CB57-4374-B935-26E96C8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B5C95-20AA-46E7-8DA1-538484C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6E45A-F1BF-4ADB-8BB1-C95F1B8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61E76-EFC4-4C4E-AE65-1C7C61DD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8D72D-9219-44D7-B395-56440FB7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155-4B22-4D46-9B0A-059AFAB2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5C3A4-AF4B-4A22-B78E-ADF45998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02BC-EF61-40BA-8C60-F990CE4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7BDA-9213-4F9C-ADDA-1A7039E9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A984E-1523-4F3F-8088-C7003DB4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140BD-7572-44A3-A07E-CE6E236A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E597A-C13C-4223-9394-CA30008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08F24-5FEF-4212-80CD-5631AEC8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BCC4-F9EF-4A55-B6D0-4736AFD6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6A61F-99A0-46DA-B7DD-C3EB6627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FB1E-E1D0-4B99-8399-035D23E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8E6A-8AD9-4C37-8DED-E5CC1825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6394D-858D-4E70-8D0A-BD90F231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37AF0-4CF0-48A8-9AE2-F2B7F43F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3BAB9-96A8-439F-BD65-FF59C69F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C071-2A18-4960-AFFD-E7014D70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AAE9D-44CD-4071-BAB1-0B535674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E8F5C-9D5B-49AB-91BF-A00C2DD8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3C28F-04F5-4AD2-A858-A00BFA89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45B62-8566-4A42-81D1-060A3ACF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2230F-6DA5-4BE0-91A4-706D1B2B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414A3-D96F-4E7E-B478-EA44ECFC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2078-7FCA-401F-844D-88312F6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14F2B-AC6D-493C-9B2A-3714278F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71F40-259E-4DAA-B1D5-85D7771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DDBC2-E69C-44C8-8A5F-EDC4DB6F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3721D-D897-477A-BCAB-F85EB114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61D77-F750-464C-B25B-4F92D394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C94A-79D3-493B-BEEC-89414FA8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C73F-26F1-442D-94E7-1B5CF94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52C-F2FF-4D62-B770-7FA432D4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4B2-7B41-4861-B4E8-58CEF22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AF4-C4CC-4C99-B849-5A8B174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3E3-BC30-421C-B258-3F2BB303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EDD-277E-448A-BB5D-B98AC1E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ADB-3A8D-4052-885F-DB3C1F86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6DC5-61C0-42A0-8112-AB8C080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B79D-95B4-4761-B181-7ECF0FE5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B96C-642E-45D0-90A3-82E941CE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9A0BC-9629-4DC0-9718-EB7E71E0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445E-7CA6-4E71-BDC6-01E03A3D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B570-B5C4-40EF-93D4-5B606A8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B7CD-E3F8-44A7-B517-6BCFF02C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D227-26A4-47DE-9B5F-4A3033B4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D4C-6004-44C2-B3E7-E794593A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093D-316B-48EE-B5F0-0346A6FE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5218-9060-42F8-A5F1-17846C8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9DD2-2D02-4AE7-B5D3-8869DA7D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79A9C-1E36-4AB4-A13A-1484160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8594-B3DC-4437-94DB-6417E0C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DCDD-F852-46B8-8B39-46A52491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7FBA-32A6-47CC-9895-C3EFE7D8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7032-9DFE-4823-BEFE-05016040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41C9-5386-4B55-BFD4-0A7D7E47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2B242-845B-4ECC-9A2D-FEDA24D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B04-2A33-49FC-A4A8-2FD151A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6AEB-A33A-4E25-9B28-7CE64B3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CAB3-618C-4713-976E-230E5234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ED93-28D9-4181-9872-E8084527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1A07-5201-459F-B24A-BBB2377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EE2BB-A67B-4B0A-9798-FFF588A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65562-1855-40C2-92EC-00C97E6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45CB6-7224-47E0-94FE-2242A528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C8C2-210B-4A7B-B88F-14A6404C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B27D-BC20-4074-B601-48A3CAC0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0BD50-5213-45DE-A098-ABD9931F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BCB-131C-4AAD-94B8-2173F43A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33002-5E5E-43AC-9DBC-B3D839B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9D0D-D17A-4427-8626-0900261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BF2AC-0FC1-4574-9467-6407301F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B659-22D8-4C73-AE27-B081E6F2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1C91-067F-4B1A-BBC9-135AA50E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A4CB-13E1-410B-A268-0F142A5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8D29-4A62-4E7D-A00F-50CE22C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9CB7-3E56-4540-AF73-98D3C7D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E010-24B0-4D43-9588-E76B4D8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D7A39-7E4F-45CD-B7EF-38386A64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DF6-A5B3-4DB2-9749-52B741C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0A9DC-240F-4E55-AAD9-0F4729B2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7D591-66B8-40FD-8CA4-F9DE9840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9DCCC-7870-4F46-8012-611A413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85FD7-D5FE-45E3-9705-52B523A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5DED-EDC6-47F6-B2E8-0F335F83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0B86-0CA2-4A98-8590-3377B93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51A3-AFB6-4ACB-943B-0E933480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4B0C1-66F5-4B98-8905-C17AED1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98C88-0FC9-4511-A280-DBA1CF2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96AA-B8A7-4DB9-A549-DF948206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D8A-AC0E-425D-AFC7-0049D67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FA0C-910F-4F9D-A9C5-34444F78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7EF6-AE1F-478B-AD48-AF4A0857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5DD3-F734-43B0-9905-7CD70252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68265-E657-498A-A475-3BDD1C93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705C-0E4A-4A46-90BD-03A1E6D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19FAB-A5F8-4B74-B518-9B6E3854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F6E1-E378-4165-BE96-4BC1776A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BADB-088C-408F-AF56-44E1CC07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A916B-AB73-40B0-8BF8-7C243FF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88B05-39D8-4ABB-B925-2306AB3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0A9-3CEF-4868-8084-891BB01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1084-45D7-4E14-859F-A62B5679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3B8A6-797D-4697-BFEA-10E1124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9DB04-9FB1-43DE-997D-2C249534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29373-F4FF-45AC-B42A-3FA689B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675F-1058-4075-99A4-72D849BF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1B652-78B6-40CA-BFBA-0A1C3D0C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87427-E9CF-495C-B59F-2B93A507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9A58-7BBB-47CF-9FF7-9A145F4B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8DE52-0C83-47C9-B115-A1DB0DC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FB00-9439-4621-8CF6-D479860D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074-15F4-4A6C-90EC-8065706F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5E588-591B-4435-A599-F1E274AC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F08A-0774-4860-A7B2-618E2FF4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54B02-DD10-494C-A266-118BCD7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B14F0-FB5A-41B6-89E4-74C715D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0E09-628F-4085-8D31-74979A10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0E970-5DEE-46FC-86B7-8B79BBD7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85901-189D-4310-9E95-B01B2BAB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21057-C8E8-4C6D-96B6-AFAC1505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ACF11-6CB9-4655-AF7D-0B79C6EF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5D871-D60B-47C5-A2D6-3E63E45E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955-541C-4F18-86E9-8418BD2E1EF7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2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9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0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70B-7120-4E2F-9CAB-0CC1FCE3FC07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8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7B0-A634-4C1A-8F28-3ECBB3695CE2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AF5-B0B9-4915-9FC3-0431399C60E8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2F73-EAB3-4566-846B-7C92AEDF718B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8B39-C10D-48C5-A2F4-13A1CD415F39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EB97-A4AB-4524-97DD-09F2E68AD8E1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C15E-5412-4765-8672-FCA37215D13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6259-7B29-476C-A47D-2AF500BE37A1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77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43B7-69A9-4CF2-9FF3-31C701454C2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32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8EE6-F376-4D24-BD40-985F3E46675B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6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EF0-038B-4997-8D67-473A3897B7EF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Fais ton « portrait dans l’avenir » en indiquant tes objectifs personnel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utilise des mots, illustrations et des photos pour représenter la personne que tu aimerais être dans 15 ans. Utilisez l’internet, des magazines, des photos,  etc.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Énumérez 5 choses vous pourrez faire dans les prochaines années pour atteindre vos objectif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4" descr="MCj04058920000[1]"/>
          <p:cNvPicPr/>
          <p:nvPr/>
        </p:nvPicPr>
        <p:blipFill>
          <a:blip r:embed="rId1"/>
          <a:stretch/>
        </p:blipFill>
        <p:spPr>
          <a:xfrm>
            <a:off x="152280" y="0"/>
            <a:ext cx="1676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ES QUES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904760" y="17521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genre d’emploi au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université, collège communautaire, cours prendrez-vous pour obtenir votre emploi de choi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ù viv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i seront les personnes importantes dans votre vie? Est-ce que vous aurez des animaux domestiq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Quels seront vos loisi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les choses voulez-vous apprendre? (langue, instrument, sport etc.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  est-ce que vous serez un membre actif dans votre communa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 (un ent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, u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e, participer dans des organisations culturelles/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ieuse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EL GENRE D’EMPLOI AUREZ-VOUS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’aimerai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e une enseigna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C:\Documents and Settings\Michelle.Skead\Local Settings\Temporary Internet Files\Content.IE5\P0USHBD3\MC900029925[1].wmf"/>
          <p:cNvPicPr/>
          <p:nvPr/>
        </p:nvPicPr>
        <p:blipFill>
          <a:blip r:embed="rId1"/>
          <a:stretch/>
        </p:blipFill>
        <p:spPr>
          <a:xfrm>
            <a:off x="4419720" y="3200400"/>
            <a:ext cx="22096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ME AUDOU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ILLE D’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ALU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905120"/>
          <a:ext cx="7315200" cy="4336920"/>
        </p:xfrm>
        <a:graphic>
          <a:graphicData uri="http://schemas.openxmlformats.org/drawingml/2006/table">
            <a:tbl>
              <a:tblPr/>
              <a:tblGrid>
                <a:gridCol w="2394000"/>
                <a:gridCol w="1152360"/>
                <a:gridCol w="1068480"/>
                <a:gridCol w="1349280"/>
                <a:gridCol w="13510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ellen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rfa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ès b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ep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suffisan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omp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ressez la liste de questions dans une manière qui montre une pensée approfondi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vous avez des photos/illustrations qui représentent vos réponses ? Avez-vous utilisé la créativité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c’est propre ? Claire ? Écrit dans un bon frança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135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2:21:11Z</dcterms:created>
  <dc:creator>ED18</dc:creator>
  <dc:description/>
  <dc:language>en-US</dc:language>
  <cp:lastModifiedBy>ED18</cp:lastModifiedBy>
  <dcterms:modified xsi:type="dcterms:W3CDTF">2014-11-26T02:22:55Z</dcterms:modified>
  <cp:revision>2</cp:revision>
  <dc:subject/>
  <dc:title> Portrait dans l’avenir</dc:title>
</cp:coreProperties>
</file>